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0ED-2680-4F25-9371-EED2DAB8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655-910B-4180-AEF0-F1F30FC2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A44-C8DE-4C68-9393-DD180CDF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BD2-7091-4A87-9DD7-E54C347C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2E22-A347-4DEA-B176-F5D78C06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A5C3-9969-4504-A8D3-7FC0FF58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278C-F32D-4EED-97EC-F58FC6FF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D79F-E2A2-4B81-872B-8A2AD0E2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F3D3-AE85-4424-9F7A-A722F42C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A378-0E73-4A75-9848-F982CD38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5E2D-0474-49F0-BCF4-1E64500F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5E3-9700-4BD0-B163-46D3D4B5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59CC-5FD1-4E61-B1BF-3B0AC68F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DEC4-156D-4B7A-9261-6C3ED6A0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F8A1-4724-464E-891D-7773B53F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ACAD-9DC4-4B5E-A182-9C5478C3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D869-B49E-42F3-80B5-69A1F834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ACF-DAC7-49D7-9746-475233A9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5FE-1FE9-4703-ACF2-905481D0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494-9C80-44A2-8215-3A86B2A3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A08-3208-4E04-8D29-1E5006C5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E0F-17D5-4203-BFF9-857937A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46B-5D97-4C2F-92A6-8C3466DA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A85-A216-4A07-A044-4DBAB225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D862-FCED-46C4-8366-0C562494830B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8E0A-56F3-49D6-9AC6-091F212B9010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404640"/>
            <a:ext cx="32004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Tit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28464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Echipa de proi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Nume – prenume – c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Unitatea de invatam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55480" y="505440"/>
            <a:ext cx="7219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Obiectivele proiectului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520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Obiectiv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Obiectiv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……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4360" y="474840"/>
            <a:ext cx="4267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Bibliografi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2491920"/>
            <a:ext cx="76518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Sursa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Sursa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9280" y="474840"/>
            <a:ext cx="678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Obiectiv 1 - conţinu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18920" y="2707920"/>
            <a:ext cx="7219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Ima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474840"/>
            <a:ext cx="678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3333cc"/>
                </a:solidFill>
                <a:latin typeface="Arial Black"/>
              </a:rPr>
              <a:t>Obiectiv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r>
              <a:rPr b="0" lang="ro-RO" sz="4400" spc="-1" strike="noStrike">
                <a:solidFill>
                  <a:srgbClr val="3333cc"/>
                </a:solidFill>
                <a:latin typeface="Arial Black"/>
              </a:rPr>
              <a:t> - conţinu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18920" y="2707920"/>
            <a:ext cx="7219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Ima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474840"/>
            <a:ext cx="678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3333cc"/>
                </a:solidFill>
                <a:latin typeface="Arial Black"/>
              </a:rPr>
              <a:t>Obiectiv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r>
              <a:rPr b="0" lang="ro-RO" sz="4400" spc="-1" strike="noStrike">
                <a:solidFill>
                  <a:srgbClr val="3333cc"/>
                </a:solidFill>
                <a:latin typeface="Arial Black"/>
              </a:rPr>
              <a:t> - conţinu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8920" y="2707920"/>
            <a:ext cx="7219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Ima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32000" y="54936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cc"/>
                </a:solidFill>
                <a:latin typeface="Arial Black"/>
              </a:rPr>
              <a:t>Întrebarea </a:t>
            </a:r>
            <a:r>
              <a:rPr b="1" lang="en-US" sz="4400" spc="-1" strike="noStrike">
                <a:solidFill>
                  <a:srgbClr val="3333cc"/>
                </a:solidFill>
                <a:latin typeface="Arial Black"/>
              </a:rPr>
              <a:t>de </a:t>
            </a:r>
            <a:r>
              <a:rPr b="1" lang="ro-RO" sz="4400" spc="-1" strike="noStrike">
                <a:solidFill>
                  <a:srgbClr val="3333cc"/>
                </a:solidFill>
                <a:latin typeface="Arial Black"/>
              </a:rPr>
              <a:t>unit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2565360"/>
            <a:ext cx="475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Concluz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…</a:t>
            </a: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……</a:t>
            </a: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9T03:18:03Z</dcterms:created>
  <dc:creator>Adi Sopon</dc:creator>
  <dc:description/>
  <dc:language>en-US</dc:language>
  <cp:lastModifiedBy>emi1laptopf</cp:lastModifiedBy>
  <dcterms:modified xsi:type="dcterms:W3CDTF">2010-12-29T10:21:40Z</dcterms:modified>
  <cp:revision>41</cp:revision>
  <dc:subject/>
  <dc:title>Lucrare metodico-ştiinţifică  pentru obţinerea gradului didactic I</dc:title>
</cp:coreProperties>
</file>